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0E19-812E-4B75-A523-FA193F292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787C-CB4E-48C3-9526-897C3501D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31A8-8C4B-4A63-9F56-4FB8CF221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3886-BE37-4D8C-BDBA-17A4B9A3E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C543B-A248-4ED2-A24A-5A2A3FCAF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ACE71-31C4-41C5-A67D-C1D900E60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0457C-9025-49CC-AA67-5124F4A8C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8C5C5-0BF3-4CE2-9A5A-D2396C29B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B2F04-3AAF-4FF7-91CE-91059D15F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F93EE-238E-46E8-A7DA-3DF09917B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BB97D-2D4F-4166-9D4D-2E7F98FB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5A0F-9109-4343-A3C8-F6BEBE719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52667-BAB1-43A0-8F06-D56C2FE8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F58EC-3767-4100-BC6B-F9420F93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7DE85-EA71-4DC8-9C34-3575168A3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FD163-7F4D-42FA-91E6-0F7EFDD26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EF3E2-CBD8-4E7D-AB18-48BEAFE50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BD11-4A37-44DA-A7FE-B3EFBE570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5CC9-8E7A-4658-BAC1-760B49476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51C7-411B-42D9-B1F0-2D6361A40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7672-E16A-4E71-914F-A85087C71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3431-64F6-47DC-94D4-1D26A32F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68A8-6C5E-466D-A16A-5EE9A040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DBAC-5C49-4919-AB8E-B5A1B156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E573B-380E-4376-94E5-94BFF5E489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B5DD6-7A51-4839-9E07-4144802CC2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jdevito.com/images/young/Huckleberry-Finn.jpg&amp;imgrefurl=http://www.jdevito.com/young.htm&amp;h=786&amp;w=640&amp;sz=147&amp;tbnid=QZSI69N4wBbZEM:&amp;tbnh=143&amp;tbnw=116&amp;prev=/images%3Fq%3Dhuckleberry%2Bfinn%2Bimage%26um%3D1&amp;start=1&amp;ei=Xvb_RsaZEabCeZqGlc0C&amp;sig2=ogIdv2tnr5ghThfqdeCWHg&amp;sa=X&amp;oi=images&amp;ct=image&amp;cd=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dancaster.com/ejw/Huck_Finn.jpg&amp;imgrefurl=http://www.dancaster.com/ejw/ejw_huck_trivia.htm&amp;h=475&amp;w=334&amp;sz=17&amp;tbnid=roNVUxADhrhuaM:&amp;tbnh=129&amp;tbnw=91&amp;prev=/images%3Fq%3Dhuckleberry%2Bfinn%2Bimage%26um%3D1&amp;start=3&amp;ei=Xvb_RsaZEabCeZqGlc0C&amp;sig2=Q_vJo58K5mitYqxlZ0vc-w&amp;sa=X&amp;oi=images&amp;ct=image&amp;cd=3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How does conflict produce change?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50288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es conflict produce change in Huckleberry Fin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43200" y="3581280"/>
            <a:ext cx="403848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3200400"/>
            <a:ext cx="1904760" cy="5814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li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0" y="3200400"/>
            <a:ext cx="1828800" cy="5814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Why Do We Read/Write Stories, Poems, Books, Plays…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4597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[examples/partial list of student responses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hor’s Reas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8320" y="2209320"/>
            <a:ext cx="403848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er’s Reas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Why do you think Mark Twain 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is still read today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[examples/partial list of possible student responses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http://fourstarters.com/category/university/"/>
          <p:cNvPicPr/>
          <p:nvPr/>
        </p:nvPicPr>
        <p:blipFill>
          <a:blip r:embed="rId1"/>
          <a:stretch/>
        </p:blipFill>
        <p:spPr>
          <a:xfrm>
            <a:off x="6400800" y="1295280"/>
            <a:ext cx="146844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experience do you have with Huck Finn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e r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Huckleberry Fi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om Sawy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w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ie based on Huckleberry Fi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916520" y="1905120"/>
          <a:ext cx="3925800" cy="41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16520" y="1905120"/>
                    <a:ext cx="392580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What Do You Think You Know about </a:t>
            </a:r>
            <a:r>
              <a:rPr b="1" i="1" lang="en-US" sz="4000" spc="-1" strike="noStrike">
                <a:solidFill>
                  <a:srgbClr val="ffffb7"/>
                </a:solidFill>
                <a:latin typeface="Arial Black"/>
              </a:rPr>
              <a:t>Huckleberry Finn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[examples of student responses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286000" y="2286000"/>
            <a:ext cx="3929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http://www.jdevito.com/young.ht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24480" y="1295280"/>
            <a:ext cx="21020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ere did you hear i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838080" y="1905120"/>
          <a:ext cx="8007480" cy="4186080"/>
        </p:xfrm>
        <a:graphic>
          <a:graphicData uri="http://schemas.openxmlformats.org/drawingml/2006/table">
            <a:tbl>
              <a:tblPr/>
              <a:tblGrid>
                <a:gridCol w="2669040"/>
                <a:gridCol w="2669040"/>
                <a:gridCol w="2669400"/>
              </a:tblGrid>
              <a:tr h="83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Personal knowledg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Media—TV, books, mov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Other peop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Do You Want to Know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2670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[examples/partial list of possible studen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esponses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676520" y="1828440"/>
            <a:ext cx="3962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http://www.dancaster.com/ejw/ejw_huck_trivia.ht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1066680"/>
            <a:ext cx="1667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5T00:32:57Z</dcterms:created>
  <dc:creator>Judi Yost</dc:creator>
  <dc:description/>
  <dc:language>en-US</dc:language>
  <cp:lastModifiedBy>Sullivan County BOCES</cp:lastModifiedBy>
  <dcterms:modified xsi:type="dcterms:W3CDTF">2010-07-02T00:21:43Z</dcterms:modified>
  <cp:revision>20</cp:revision>
  <dc:subject/>
  <dc:title>What can Romeo and Juliet Teach Us About Ourselves?</dc:title>
</cp:coreProperties>
</file>